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2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882B-D862-47EB-8B19-A57393826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D03D-382F-4F7C-AF94-A86CA85FC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F51-59CF-46AD-8D69-84DA805D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DA8-F52C-40D1-9B8F-7339E4BC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F07-CCF2-4AEA-8AA9-AFC3AB46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B0E-9EC9-484E-963F-D6156EBB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1BC4-7329-4BCF-890C-B49B1BD2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68C5-2022-4FCA-BE32-C6A1EAA9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935A-0D56-4717-98BE-DCE9985F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586E-CA2B-4B20-B08B-34F3DA20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30EE-9881-45D0-8015-07AB4ABB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4EA5-D03A-466B-B1A9-6F1E33A1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63A5-E6EC-4AB2-B63A-BE06E3B6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2DE-DE98-4D98-A85E-CA2BE5B0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7B3C-F2CD-437C-A326-244F4995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970B-7154-4ABB-8181-46EAD5EC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2D85-9925-43C1-BF28-34608CA1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1ED4-241B-4905-A016-762B5529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9ECB-B813-464B-9667-17711F26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150D-DC16-4D86-AAF6-CDBE3AB7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2B5F1-1337-4396-B59E-B242C5C6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35B07-8371-4DA3-A6DE-FBA82052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E4D69-80F0-4FC5-B2C3-CD65F635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25E7A-C192-414C-9945-011791FE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9C1-C2AF-4B2C-B23C-528879B9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9AD44-B91A-433F-9988-AE91AE93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5D0DC-FC6B-4C74-B29B-33EF1A42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725B1-A641-4D6D-9359-75F7E344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B8659-95B4-4D64-B395-A72C8700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E536-3BB4-4CA1-BE1C-2039EFC7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EE77C-E457-40A6-A4B7-30300445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6A16F-62AB-4ACC-AE0E-65A1EBF2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2B864-D905-4F26-ABC2-4FB9B0BE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87729-F22F-455E-AEA7-D6D8DD2F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3A81E-437F-47A1-AF10-414F064B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B47-C31A-4662-A81C-628E3815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BDDD0-1E0F-4471-ADF0-CF096A1E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F6CB6-05CA-47E7-9165-6D6FB99F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104DD-757D-4EDE-A6ED-DC0E108E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B778-57F2-4E3B-ACEC-29CBD004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9297-97E3-45DE-A03E-A095135D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F5E46-6304-4955-8980-205C9EF5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35E2B-1E3B-4141-87C8-2C054B20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54BE9-1608-4D81-BAC0-DD3CDD5D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C9789-CC4D-416B-9F03-89278F5F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941-32EA-4297-9F32-2B7139C6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134-2399-45BF-9B31-F7592A21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387-FF13-40A1-8148-0959AFEF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685-9683-40BB-9709-83B714BC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C2E-899E-432F-B0AD-6463CAF6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760E-62EF-4D58-ACF5-5CFFB3F9E23C}" type="slidenum">
              <a:rPr b="0" lang="en-PH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2464-85E7-4B52-9834-0FEAC5098FFE}" type="slidenum">
              <a:rPr b="0" lang="en-PH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F4C5-650F-407B-B850-84597B9A3136}" type="slidenum">
              <a:rPr b="0" lang="en-PH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692C-2330-4151-80FB-33C6A96A43BD}" type="slidenum">
              <a:rPr b="0" lang="en-PH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C:\Users\NEO\AppData\Local\Microsoft\Windows\Temporary Internet Files\t012912a.bmp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400800"/>
          </a:xfrm>
          <a:prstGeom prst="rect">
            <a:avLst/>
          </a:prstGeom>
          <a:ln w="0">
            <a:noFill/>
          </a:ln>
        </p:spPr>
      </p:pic>
      <p:pic>
        <p:nvPicPr>
          <p:cNvPr id="203" name="Title 1" descr=""/>
          <p:cNvPicPr/>
          <p:nvPr/>
        </p:nvPicPr>
        <p:blipFill>
          <a:blip r:embed="rId2"/>
          <a:stretch/>
        </p:blipFill>
        <p:spPr>
          <a:xfrm>
            <a:off x="506520" y="689040"/>
            <a:ext cx="8912160" cy="27306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2971440" y="3657240"/>
            <a:ext cx="56451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Constantia"/>
              </a:rPr>
              <a:t>Mr Geoffry A. Gonzag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Constantia"/>
              </a:rPr>
              <a:t>Second Year/Biology Room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Constantia"/>
              </a:rPr>
              <a:t>June 2011- March 2012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 rot="9394800">
            <a:off x="3379320" y="3309480"/>
            <a:ext cx="6083280" cy="2614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ast Ninja"/>
              </a:rPr>
              <a:t>III. Heredity and reprodu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901"/>
              </a:spcBef>
              <a:buClr>
                <a:srgbClr val="009dd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s and Heredit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901"/>
              </a:spcBef>
              <a:buClr>
                <a:srgbClr val="009dd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, Proteins and Nucleic Acid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901"/>
              </a:spcBef>
              <a:buClr>
                <a:srgbClr val="009dd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ication, Transcription and  Transl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901"/>
              </a:spcBef>
              <a:buClr>
                <a:srgbClr val="009dd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osis and Meio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901"/>
              </a:spcBef>
              <a:buClr>
                <a:srgbClr val="009dd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Cycl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901"/>
              </a:spcBef>
              <a:buClr>
                <a:srgbClr val="009dd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1219320" y="5257800"/>
            <a:ext cx="3886200" cy="1600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ast Ninja"/>
              </a:rPr>
              <a:t>IV. Development, growth and repro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ast Ninj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Divis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Differenti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, Organ and Organ Syst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ization and Reproduc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 Cycles of Organis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x Differenti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6072120" y="4191120"/>
            <a:ext cx="3016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ast Ninja"/>
              </a:rPr>
              <a:t>V. Homeostasis of living system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ast Ninj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d Chain and Food Wed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ter and Energy Pathway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s of  Popula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356080" y="4737240"/>
            <a:ext cx="37911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4343400" cy="33242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ast Ninja"/>
              </a:rPr>
              <a:t>VI. The Dynamics of Ecosyste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ast Ninj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Biom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diversit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Technology and Innovation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7162920" y="5029200"/>
            <a:ext cx="16570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3" descr=""/>
          <p:cNvPicPr/>
          <p:nvPr/>
        </p:nvPicPr>
        <p:blipFill>
          <a:blip r:embed="rId1"/>
          <a:stretch/>
        </p:blipFill>
        <p:spPr>
          <a:xfrm>
            <a:off x="536400" y="1255680"/>
            <a:ext cx="8461440" cy="24382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igo National Highschoo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Users\NEO\AppData\Local\Microsoft\Windows\Temporary Internet Files\t059292a.bmp"/>
          <p:cNvPicPr/>
          <p:nvPr/>
        </p:nvPicPr>
        <p:blipFill>
          <a:blip r:embed="rId1"/>
          <a:stretch/>
        </p:blipFill>
        <p:spPr>
          <a:xfrm>
            <a:off x="2895480" y="4381560"/>
            <a:ext cx="4286520" cy="2200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Users\NEO\AppData\Local\Microsoft\Windows\Temporary Internet Files\t014602a.bmp"/>
          <p:cNvPicPr/>
          <p:nvPr/>
        </p:nvPicPr>
        <p:blipFill>
          <a:blip r:embed="rId2"/>
          <a:stretch/>
        </p:blipFill>
        <p:spPr>
          <a:xfrm>
            <a:off x="228600" y="4481640"/>
            <a:ext cx="2857680" cy="2358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C:\Users\NEO\AppData\Local\Microsoft\Windows\Temporary Internet Files\t041373a.bmp"/>
          <p:cNvPicPr/>
          <p:nvPr/>
        </p:nvPicPr>
        <p:blipFill>
          <a:blip r:embed="rId3"/>
          <a:stretch/>
        </p:blipFill>
        <p:spPr>
          <a:xfrm>
            <a:off x="6553080" y="3809880"/>
            <a:ext cx="2238480" cy="30052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6196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04617b"/>
                </a:solidFill>
                <a:latin typeface="Last Ninja"/>
              </a:rPr>
              <a:t>Bi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Branches of Bi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Scienti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Scientific Innovations and Applic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Parts and Function of Cells, Organs and System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F:\world-math-day.jpg"/>
          <p:cNvPicPr/>
          <p:nvPr/>
        </p:nvPicPr>
        <p:blipFill>
          <a:blip r:embed="rId1"/>
          <a:stretch/>
        </p:blipFill>
        <p:spPr>
          <a:xfrm>
            <a:off x="4419720" y="1371600"/>
            <a:ext cx="4572000" cy="4603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F:\f50c0.gif"/>
          <p:cNvPicPr/>
          <p:nvPr/>
        </p:nvPicPr>
        <p:blipFill>
          <a:blip r:embed="rId2"/>
          <a:stretch/>
        </p:blipFill>
        <p:spPr>
          <a:xfrm>
            <a:off x="7520040" y="838080"/>
            <a:ext cx="1606320" cy="14558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04617b"/>
                </a:solidFill>
                <a:latin typeface="Last Ninja"/>
              </a:rPr>
              <a:t>	</a:t>
            </a:r>
            <a:r>
              <a:rPr b="0" lang="en-PH" sz="5000" spc="-1" strike="noStrike">
                <a:solidFill>
                  <a:srgbClr val="04617b"/>
                </a:solidFill>
                <a:latin typeface="Last Ninja"/>
              </a:rPr>
              <a:t>MathemATIC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Se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Real numbers and Integ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Trigonometr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Problem solving and exercis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4" descr="F:\images.jpg"/>
          <p:cNvPicPr/>
          <p:nvPr/>
        </p:nvPicPr>
        <p:blipFill>
          <a:blip r:embed="rId3"/>
          <a:stretch/>
        </p:blipFill>
        <p:spPr>
          <a:xfrm>
            <a:off x="762120" y="4470480"/>
            <a:ext cx="3657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F:\english.jpg"/>
          <p:cNvPicPr/>
          <p:nvPr/>
        </p:nvPicPr>
        <p:blipFill>
          <a:blip r:embed="rId1"/>
          <a:stretch/>
        </p:blipFill>
        <p:spPr>
          <a:xfrm>
            <a:off x="152280" y="476244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F:\learning-english.jpg"/>
          <p:cNvPicPr/>
          <p:nvPr/>
        </p:nvPicPr>
        <p:blipFill>
          <a:blip r:embed="rId2"/>
          <a:stretch/>
        </p:blipFill>
        <p:spPr>
          <a:xfrm>
            <a:off x="4495680" y="3276720"/>
            <a:ext cx="4876920" cy="37526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04617b"/>
                </a:solidFill>
                <a:latin typeface="Last Ninja"/>
              </a:rPr>
              <a:t>Englis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Gramma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Parts of Speech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Sentence construc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Poetr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Oral Communic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5" descr="F:\we-love-english2.jpg"/>
          <p:cNvPicPr/>
          <p:nvPr/>
        </p:nvPicPr>
        <p:blipFill>
          <a:blip r:embed="rId3"/>
          <a:stretch/>
        </p:blipFill>
        <p:spPr>
          <a:xfrm>
            <a:off x="6508800" y="685800"/>
            <a:ext cx="25621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000" spc="-1" strike="noStrike">
                <a:solidFill>
                  <a:srgbClr val="04617b"/>
                </a:solidFill>
                <a:latin typeface="Last Ninja"/>
              </a:rPr>
              <a:t>His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Provinces of the Philippin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Ethnic Groups in the Philippin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Revolution Era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PH" sz="3200" spc="-1" strike="noStrike">
                <a:solidFill>
                  <a:srgbClr val="000000"/>
                </a:solidFill>
                <a:latin typeface="Constantia"/>
              </a:rPr>
              <a:t>National Hero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4114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6095880"/>
          </a:xfrm>
          <a:prstGeom prst="rect">
            <a:avLst/>
          </a:prstGeom>
          <a:ln w="0">
            <a:noFill/>
          </a:ln>
        </p:spPr>
      </p:pic>
      <p:pic>
        <p:nvPicPr>
          <p:cNvPr id="225" name="Title 3" descr=""/>
          <p:cNvPicPr/>
          <p:nvPr/>
        </p:nvPicPr>
        <p:blipFill>
          <a:blip r:embed="rId2"/>
          <a:stretch/>
        </p:blipFill>
        <p:spPr>
          <a:xfrm>
            <a:off x="407880" y="1371600"/>
            <a:ext cx="895536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ast Ninja"/>
              </a:rPr>
              <a:t>In focus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tikFont1"/>
              </a:rPr>
              <a:t>Summary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Vintag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ntage"/>
              </a:rPr>
              <a:t>Origins of life, evolution and biodiversit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Vintag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ntage"/>
              </a:rPr>
              <a:t>Cell structure and function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Vintag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ntage"/>
              </a:rPr>
              <a:t>Heredity and reproduc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Vintag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ntage"/>
              </a:rPr>
              <a:t>Development, growth and reproduc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Vintag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ntage"/>
              </a:rPr>
              <a:t>Homeostasis of living syste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Vintag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ntage"/>
              </a:rPr>
              <a:t>The dynamics of ecosystem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ast Ninja"/>
              </a:rPr>
              <a:t>I. Origins of life, evolution and bio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ast Ninj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Blocks of Lif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Methods and Skill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 Apparatu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s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3" marL="941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9414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9414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 rot="19171800">
            <a:off x="5238360" y="3641760"/>
            <a:ext cx="4152960" cy="311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2"/>
          <a:stretch/>
        </p:blipFill>
        <p:spPr>
          <a:xfrm>
            <a:off x="2009880" y="4724280"/>
            <a:ext cx="28954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Users\NEO\AppData\Local\Microsoft\Windows\Temporary Internet Files\t059292a.bmp"/>
          <p:cNvPicPr/>
          <p:nvPr/>
        </p:nvPicPr>
        <p:blipFill>
          <a:blip r:embed="rId1"/>
          <a:stretch/>
        </p:blipFill>
        <p:spPr>
          <a:xfrm>
            <a:off x="5638680" y="3124080"/>
            <a:ext cx="403884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ast Ninja"/>
              </a:rPr>
              <a:t>II. Cell structure and functio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and Functions of a Cel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es of a Cel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s and Animal Cell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6:14:01Z</dcterms:created>
  <dc:creator>NEO</dc:creator>
  <dc:description/>
  <dc:language>en-US</dc:language>
  <cp:lastModifiedBy>Asus</cp:lastModifiedBy>
  <dcterms:modified xsi:type="dcterms:W3CDTF">2011-10-03T06:38:24Z</dcterms:modified>
  <cp:revision>21</cp:revision>
  <dc:subject/>
  <dc:title>PowerPoint Presentation</dc:title>
</cp:coreProperties>
</file>